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72F-C604-4CB7-BC8C-A17F3574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53D-F30F-4E5D-82C1-69CEE0A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924-00E6-42E4-8162-F1CDA845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7C8-7092-4061-ACB3-D62EBFFE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CC19B-31AB-4C12-9DBC-7E66F5D1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C8556-9FF4-4614-98E4-0E1FF12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34912-D6A4-41A2-84BB-4E636C3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884A-DA50-4966-A944-1A8435F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5DF0-6A22-4989-9DF8-34E598E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B4019-CE55-4390-AB24-252C85CE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945BD-5E37-4632-8CA4-B83FA47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9B4-61A4-4964-A1D0-1B84CE34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E867B-C782-4818-B1FC-73279B2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C82B9-B640-4210-819C-B782C3A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BC4F-EBAB-4871-A101-E607DB4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4BCA-4BB2-42B3-8C4B-B9D4CA9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E217-4A6B-42C1-A92E-631DA4FB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414-A118-44C5-A9FC-BB70F853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A00-D55A-43CF-AA27-4EC79C6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616-228D-470C-9F0E-C7C4EEA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7C2-7A97-4684-810C-9CC0871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B7B-D713-43CC-943A-CB8431D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C7F-CFCD-413C-97ED-6C56AB4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910-F3B0-47AE-AD22-D7F5CC0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705-D9C8-4F93-8D78-BD97738E3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104-871A-4EDB-AE5D-0A39301F1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r para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Frank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tost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huev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toc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la salchi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beber  jugo de nar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almuerz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un sándwich de jam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Che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el té he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438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819520" y="2057400"/>
            <a:ext cx="1743120" cy="26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hamburguesa con qu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papas fr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ensalada de pa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beber Coca-Co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124080" y="1676520"/>
            <a:ext cx="1324080" cy="344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42Z</dcterms:created>
  <dc:creator>franklinmat</dc:creator>
  <dc:description/>
  <dc:language>en-US</dc:language>
  <cp:lastModifiedBy>franklinmat</cp:lastModifiedBy>
  <dcterms:modified xsi:type="dcterms:W3CDTF">2011-04-14T18:04:34Z</dcterms:modified>
  <cp:revision>5</cp:revision>
  <dc:subject/>
  <dc:title>Lo que es para …</dc:title>
</cp:coreProperties>
</file>